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216A-45C1-4641-8BEB-ABF404E35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2BBB-8E14-4020-9CCC-BBEA69F34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A230-2888-4514-963A-0D890FEC6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653D-2FD0-46DB-94C5-7E642B523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63F3-4A65-4F28-A381-57C110722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5168-4AC2-40BB-9A49-43CCC4107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BD34-5969-4D35-9375-A9F580543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EA00-F93A-4C90-9364-2518F90EF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D1B1-11E7-43D1-A666-D8509A659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A2D2-8061-4D40-B1AD-BB3544791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BA9A-87BE-430D-8E7E-D6B65B784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E976-4606-4D1B-815E-0B69969F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61C97-1571-4229-91E5-0E64890356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spreadsheets.google.com/ccc?key=pINNryLt_vyDiPyHj11WiDg&amp;hl=en_US&amp;pli=1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I: Brainstorming Docu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cis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320" y="11430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discussions with W3C folks such as Ralph Swick, Karen Myers, Steve Bratt, Eric 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3C is interested in working with external standards bodies such as HL7 and CDISC and express their content using Semantic Web specification such as RDF and OWL – Steve Bratt at the Bio IT World Lunche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ication about W3C being a content neu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n Kisler emphasized that since W3C is providing only the languages, a collaboration would be synergistic and would make s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it possible to develop a collaborative interest group with involvement of HL7, CDISC and others – conversation with Ralph Swi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e proposed Solution Archite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72200" y="3886200"/>
            <a:ext cx="1219320" cy="144792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234120" y="5446800"/>
            <a:ext cx="151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R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98640" y="1828800"/>
            <a:ext cx="147312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17800" y="2438280"/>
            <a:ext cx="10540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022640" y="3313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50920" y="3352680"/>
            <a:ext cx="113004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ig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438280" y="2133720"/>
            <a:ext cx="13716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179400" y="2438280"/>
            <a:ext cx="2248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DF 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76920" y="2666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781680" y="30481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286000" y="2895480"/>
            <a:ext cx="152388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14400" y="1676520"/>
            <a:ext cx="167652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76320" y="460836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cis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State Assum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Models and Vocabularies used in Clinical Trials Context are different from those used in the Healthcare Delivery 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hasis on the mapping asp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Plug and Play of different Information Models and Vocabul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ology Choic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R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3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pping Modu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tical component of the key goal of this effo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e., To gain acceptance from a wide variety of stakeholders in the healthcare and clinical trials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L7/RIM/DCM – seek alignment with healthcare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ISC/SDTM – seek alignment with clinical trials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Mappings across these two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limitations and gaps across these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p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 only on those data items that are required for patient recrui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 only on those data items that are related to diabetes and hyper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driven in some part by “mock” diabetes and hypertension 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Case Step Throug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nical Trial Administrator uses the Protocol Specification Interface to specify the eligibility criteria. The data items are specified using elements from the SDTM mod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pping module translates the data items to the appropriate HL7/RIM/DCM represen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priate queries are made to the Mediator/Gateway mod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ediator/Gateway module translates the query into the underlying database query language. The query is executed at the database and sent to the mapping mod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pping module retranslates the data into terms from the SDTM mod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ligibility Checking Module checks which patients satisfy the eligibility crite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lected patients are returned to the Clinical Trial Administr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Some eligibility criteria may not be expressible using SPARQL queries and may required rule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xt Steps: Narrow Scope for Imple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ose a protocol for implementation #8 (second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 Scope to Medications, Lab Tests and Vital Sig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Clinical Trials Ontology and Clinical Practice Ont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rative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gnment with standards as closely as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 RDF data store based on data requirements and mock pat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 Mapping module using N3 r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 Eligibility checking module using SPARQ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y to demonstrate another use case for Adverse Drug Event Det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cification of Eligibility Crite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we will use an ontology or rule-based tool to specify eligibility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to NLP/Ontology-based approaches that translate free text clinical protocol specifications that transform these into a structured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ype 1 diabe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/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istory of ketoacid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istory of long-term therapy with insulin (&gt;30 days) within the last ye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igibility Criteria Spec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unctional requirements for this need to be identified and spec’ed out. For e.g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oral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nds on clinical data and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 of Scope for PO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want to see if the CT or HC communities have done some work on standards for specifying eligibility criter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 of Scope for P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sign Choice: Eligibility Criteria as a “layer” around Data I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I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: Type 2 Diab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tory of Problem: Ketoacid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tory of Thera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: Insul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ngth: X d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 Period: [Date1, Date2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gibility Criter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le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ient has Type 2 Diab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ient has History of Ketoacid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ient has History of Therap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 = Insul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&gt; 30 d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 Period &lt; 1 ye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ppings: Goal/Method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acterize the various data items required for patient recruitment (modulo scope)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ist of requirements on the data content T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preadsheets.google.com/ccc?key=pINNryLt_vyDiPyHj11WiDg&amp;hl=en_US&amp;pli=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ach data item do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the RIM/DCM construct(s) that models that data item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CM column under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the SDTM construct(s) that models that data item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DTM column under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the terminologies that model some of the values required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rminology Columns including Snomed, MedDRA and NCI Thesau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the data types and values that characterize the values of some of the data items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ata Types and Units columns including those for RIM and SD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will be considering various constructs of HL7/RIM, Detailed Clinical Models and other models in conj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edback from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yotishman Path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n Russ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t Mo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an Ruttenbe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sa Mirha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e Feigenba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nan F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chel Riches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ie Steph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ic Prud’hommea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ider a Data Item Exampl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y of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: Insu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ngth of Therapy: 100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Date: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Date: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ping Method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Information Model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apy =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stanceAdministration (HL7/RI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ective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tus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dication (subClass of ManufacturedMaterial, HL7/RI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fic type of Participation called Consumable (HL7/RI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ulin =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dication.Name (HL7/RI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Controlled Vocabul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cation.Name =&gt; Controlled Vocabulary RxNorm (also known as Terminology Bind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Data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s and Times =&gt; TS data type in HL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luded in the definition of data types … taken from the UCUM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pping Methodology (Continue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pings between Information Model element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olicBP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STEST, VSTESTCD = SYS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pings between controlled vocabula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olicBP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“Some Snomed Concep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BP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“Some NCI Thesaurus Concep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Snomed Concept”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“Some NCI Thesaurus Concep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Data Types and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L7:PQ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SRE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 Choice: Leverage Existing Implementations an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R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use the Reasoner to compute eligibility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antic DB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use the NLP parser (if available) to parse the textual representation of the clinical trials criteria into structured queries, rules, whatev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ical: Eligibility Criteria in OW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(hasProblem some DiabetesType 1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or hasHistory some Ketacidosis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hasTherap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(some Therap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that hasLength all int[&gt;30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and hasTimePeriod all int[&lt; 365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st for illustration purposes … need thorough and detailed analysis to get it r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ical Design: Eligibility Criteria using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(the_patient.hasProblem = DiabetesType 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the_patient.hasHistory = Ketacidos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the_patient.hasHistory.name = Insu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the_patient.hasHistory.length &gt; 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the_patient.hasHistory.timePeriod &lt; 3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_patient is eligible for the clinical t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ping Design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mappings always 1-1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 always possible to get synonym mapping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ppens to these mappings when there are changes in the information mode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these mappings enough to enable a bi-directional flow through between EMR and Clinical trials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emonstrate the value of semantic web (SW) specifications in bridging the divide between clinical practice and clinical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aborative development of a proof of concept (POC) that demonstrates key value propositions of using SW specif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get buy-in from a wide variety of stakeholders as a prelude to acceptance and adoption of semantic web spec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buy-in for the use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wide participation and involvement of the key stakeholders in various stages of analysis, design and development of the PO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use existing standards, terminologies, data and information models of existing communities to increase the probability of adop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roup has been functioning in a consensus driven manner where opinions are sought at each step from all the stakeholders and a decision is taken based on the consensus so cre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as realized that a critical success factor was to incorporate the views of various communities at each ste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cision 1: Use C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Case Development was lead by Rachel Riches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de variety of use cases were investigated and discu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ient Recrui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erse Event De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king Patient Through a Clinical T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sion: Focus on Patient Recru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was assumed to be in an EM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-use of existing Information Mode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can we re-use EMR data for Clinical Researc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L7/RIM/DCM descriptions may be viewed as a “format” for Clinical Research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ically clinical data in healthcare delivery systems and applications is represented or transformed into this “forma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ISC/SDTM description may be viewed as a “format” for Clinical Research ques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ically clinical data in clinical trials systems and application is represented or transformed into this forma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we ask questions in one “format” when the data represented in another “format”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can we implement functionality to map across these “formats”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pping module should be flexible to incorporate extensions in the “format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pping module should be flexible to “plug and play” with multiple “format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cision 2: Information Mode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e variety of Information Models were consid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L7/R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ISC/SD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ailed Clinical Models from Intermountain Health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MR Ontology (Chimezi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igibility Criteria Ontology (Hel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lthcare Delivery Encounter-based Meta Model (Parsa Mirhaj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one ontology/information model is likely to fit the b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gn as closely as possible to existing information model and terminology standards as possib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gaps and inadequacies in addressing the use case at h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feedback to standards groups: CDISC, HL7/RIM, BRID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sion: Use CDISC/SDTM, Detailed Clinical Models, HL7/RIM as “seed” ontologies to begin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ratively refine them as gaps and inadequacies are 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onstrate Re-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use of data from the EMR for Clinical 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use of existing vocabularies, e.g., NCI Thesaurus, Snomed, MedD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use of pre-existing information models e.g., HL7/RIM/DCM, SD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and Re-use software components that can be used to enable a wide range of use ca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ient Recrui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erse Drug Event De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cking a Patient through a Clinical T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the POC based on an implementation of these re-usable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nents that implement ma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nents that implement data retrie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nents that implement wrappers/trasnform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nents that implement checking for elgibility criteria, adverse events and other clinical events of signific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cis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ded to implement POC on a real world data set as opposed to a synthetically created data set. This raised the following issu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ould be an appropriate “seed’ Information Model/Ontology to describ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ealthcare data based on current st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appropriate terminologies (e.g., Snomed, LOINC, RxNorm) that need to be considered to capture coded information 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ealthcare data based on curren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sa Mirhaji provided the data and his feedback was crucial in identifying the appropriate “seed” model/termi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8T19:01:57Z</dcterms:created>
  <dc:creator>Partners Information Systems</dc:creator>
  <dc:description/>
  <dc:language>en-US</dc:language>
  <cp:lastModifiedBy>Partners Information Systems</cp:lastModifiedBy>
  <dcterms:modified xsi:type="dcterms:W3CDTF">2008-06-23T18:21:01Z</dcterms:modified>
  <cp:revision>35</cp:revision>
  <dc:subject/>
  <dc:title>COI: Functional Requirements</dc:title>
</cp:coreProperties>
</file>